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E58B-6156-401A-851D-A0E182DE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8A9C-194C-4175-9CAB-74A41B1A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7BBD-9A3A-4DF2-9D7D-53D290C50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0F39-1687-4A59-AE75-66EACFEDF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3696-51A9-43FA-8EAF-205EEB84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8E51-32FF-4E44-A903-0AE318AF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BCCC-B071-494B-8654-353E3863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9A55-55BB-481E-B978-4DBF05AD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AB71-4451-46C7-8CAF-4481FB15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46B2-5C52-463C-8576-6D972CD7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2427-8D2B-4C50-B93B-BDD19DD3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B592-BFD5-46FB-99CE-8BD90C69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A9BC-19D6-4AFD-A391-8620F54F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BAE2-8073-4FC2-AFF7-9739BA76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C6B6-974B-48CB-BFF5-E6AD1AFE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CE59-86F6-43A2-A275-75EAD3C65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7ECB-89FB-4215-9625-DE1EDF72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D2F4-5312-4AC9-A24C-D3D9C329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AE17-DB8B-43F9-AB09-B172AAC8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4EF6-C9D6-4C4A-82CF-41A507A9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2DBC-D465-40D6-86F1-C79F98A8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7863-0971-45D3-B157-E87066F0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C361-2970-45FA-8F71-58000733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216D-F622-42F9-951D-A60FCF00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CFE9-875C-48D8-B852-3C2CC40DFEC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D2B0-7D26-4D08-89B9-114CBE7D740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xrx.net/WeightTraining/Guidelines.html" TargetMode="External"/><Relationship Id="rId2" Type="http://schemas.openxmlformats.org/officeDocument/2006/relationships/hyperlink" Target="http://www.exrx.net/ExInfo/WarmUp.html#anchor487985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hysical Fitness Lecture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tness Termi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verloa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make a muscle stronger it must work harder than it does at r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erobic-heart must beat faster and breathing must incr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erobic-more repetitions of an exercise or increased we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ember not to overdo i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pecific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rcise is specif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etches will help flexi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loading your muscles will make them strong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be good at a specific sport you must practice the skills required to play that s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arm up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ts the body ready for rigorous exercise in two ph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Graduated aerobic warm-up ac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Stretching or Flexi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rm-up should be 5 to 10 minu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y to hold stretches for at least 20 seco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ol Dow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owly decreasing the intensity of the activity you are perfor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pping suddenly can be danger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extremely important for people who are just starting a pro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per cool down should be 5 to 10 minu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aeaea"/>
                </a:solidFill>
                <a:uFillTx/>
                <a:latin typeface="Tahoma"/>
              </a:rPr>
              <a:t>FIT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-Frequency, Intensity, and Tim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requenc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the number of times per week a person works ou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ntensi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speed or workload of an activity (the level of intensity is very important for a progra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im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The duration of an exerc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times/wk \ Target heart range \ 20-30 minut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Weight Training /Weight Room Orientatio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E Weight training progra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tness based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www.exrx.net/WeightTraining/Guidelines.htm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ll body (Two sets-warm up and workout set)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http://www.exrx.net/ExInfo/WarmUp.html#anchor48798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lete during class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eight Roo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ord what you do when ever you are in t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ord sheets will be in folder located in weight ro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will get out of it what you put into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ardiovascular Endurance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ility for large muscle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ility to deliver oxygen to the b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ral component of fitness pro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reases risk of heart disease, stroke, and high blood press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ll-conditioned heart supplies blood to the body while doing less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trength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cle or muscle groups exerting fo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ight-lifting or resistance training is classic example of strength trai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weight with low reps increases muscle mass and streng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st-twitch muscle fi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ow-twitch muscle fi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uscular Enduran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bility for muscles to work strong without r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urance training is required to achieve stamin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weight training, light weight with high repetitions will work endur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lexibil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bility of joints and muscles to achieve full range of mo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lps prevent injuries and keeps body feeling comfortable after exerc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build muscle does not mean you have to lose flexi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erobic Exercis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otes cardiovascular fitness by raising your pulse to a targeted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ommended that you exercise target heart rate 3 times/wk for 30m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erobic exercise strengthens your lungs, helps control weight, increases flexibility, and reduces risk of injur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naerobic Exercis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cuses on specific muscles and their size, endurance, and streng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ight training is an examp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arget Heart Rat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ptimal rate for burning fat and increasing cardiovascular endur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calculate range:  220-(your age) low end multiply by .6 (60%) for the high end multiply by .75 (75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lose weight and burn fat work out in this range for 20 to 30 m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ogres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dually increase how hard, long, and many times you do an exerc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will take 6 to 8 weeks for physical improvements to be notice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will feel better right aw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14:07:17Z</dcterms:created>
  <dc:creator>user</dc:creator>
  <dc:description/>
  <dc:language>en-US</dc:language>
  <cp:lastModifiedBy>user</cp:lastModifiedBy>
  <dcterms:modified xsi:type="dcterms:W3CDTF">2007-01-24T21:41:17Z</dcterms:modified>
  <cp:revision>6</cp:revision>
  <dc:subject/>
  <dc:title>Physical Fitness Lecture </dc:title>
</cp:coreProperties>
</file>